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6728-5801-4781-BEFF-3705E02BAC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8CE2-0AE6-4267-88D1-36F4A6D5F6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897-4492-4F23-AF6D-D6F51A59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54C-217C-4C74-9BF7-A6F4E147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244-29FF-42C8-954C-8D7305E3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EEC-6980-45D3-A333-C1FEAD9A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3DD0-5114-4F8B-A557-0CCBB989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DCC3-86F9-46C5-ADD7-2746B992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5F82-889F-43E7-AD6F-9B2CC6BB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D475-FD1C-45E4-81E5-72A14892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5F8C-A8E6-41A4-B533-884C808A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CB3D-950E-4CA9-B62C-44B1B5A5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9372-9991-4151-99AA-36E62729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F69-16A8-4C22-97C3-3B7BD0DF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E726-E8B2-47D5-8A6B-12BB0053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A4CD-EE15-466D-A06F-DCF294AF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F302-B298-42BB-B10E-B8DFF60D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E74E-941F-4364-9D51-66D7D440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AEFB-E45A-4262-95D5-6ED604A9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50208-A84A-489C-8242-802E9461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1BA0-96A3-4A40-B9CD-40C6A9F1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3107-988E-423E-B0B3-EBCF9334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24FF-BCC9-434D-AE5D-5388FD4E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08BF-03A5-4D1F-8911-3D8BF221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B06-29EA-4057-ADCF-967D6BC4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C953-670E-47F4-9458-82E4E8CE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FDA7-597A-4B8F-AE44-BB233F0A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7FFE2-F9E4-4E78-B678-E50FA5AE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4C78-B532-41E6-8008-66C65D7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70D3-DEA2-46D4-AEAB-1F069168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C801-9325-40E0-8A28-CC5A3E11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0897-7822-4B9D-8508-21A2A653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10BB5-110A-45F2-B7E1-362B5E02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2B4B8-708E-4D31-AC6F-ABDD71EF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281DB-AD6F-4F6F-9C25-3ECF47EB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B50-F138-4B94-827C-63492C7C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1951-5187-46FC-8040-C89AD774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D1D73-DE4C-43E5-99EF-6EB0F739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4B3EE-D652-4CEA-A227-1A816384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3766-A10E-4CDB-A53F-80D85C45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D0E5C-605F-4515-A262-B09AE16D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A4DF3-4024-46B2-A9F7-0E4114F0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9952-B88E-42E7-8B4C-C0C4D2B0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82141-1C04-486A-9214-3EE60EB9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D7A42-8E1B-4516-B05F-2A6F093F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EC5-FE8F-44D0-BADA-AAA77F2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ECA-50A4-4A86-8269-D1B72B52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74A-966E-428D-A287-5585C776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3A8-0B64-42E7-9C44-6954197B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0FF-BFE9-4B55-91BD-54F013AB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82B6-F8F0-47D7-8145-3B5CCBB78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88EC-FFA6-4164-86C7-A2B0A3D5C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25C1-5490-4B83-923F-A6576AF0D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EB4C-FC36-4CCF-B570-40A53A1A8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929720" cy="42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Профессиональная компетентность современного педагога ДОУ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Успешность и карьера.</a:t>
            </a:r>
            <a:br>
              <a:rPr sz="36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857680" y="4143240"/>
            <a:ext cx="60004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рова Анастасия Виталь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ь ГБДОУ детский сад  №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4" descr="F:\Мои рисунки\книги\5cebd5a1c5bd.png"/>
          <p:cNvPicPr/>
          <p:nvPr/>
        </p:nvPicPr>
        <p:blipFill>
          <a:blip r:embed="rId1"/>
          <a:stretch/>
        </p:blipFill>
        <p:spPr>
          <a:xfrm>
            <a:off x="285840" y="4500720"/>
            <a:ext cx="2836800" cy="196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3" descr="D:\Мои документы\Мои рисунки\Садик\post-50343-1263738910.png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786200"/>
          </a:xfrm>
          <a:prstGeom prst="rect">
            <a:avLst/>
          </a:prstGeom>
          <a:ln w="0">
            <a:noFill/>
          </a:ln>
        </p:spPr>
      </p:pic>
      <p:sp>
        <p:nvSpPr>
          <p:cNvPr id="193" name="Выноска со стрелкой влево 4"/>
          <p:cNvSpPr/>
          <p:nvPr/>
        </p:nvSpPr>
        <p:spPr>
          <a:xfrm>
            <a:off x="5143680" y="428760"/>
            <a:ext cx="3714480" cy="1571400"/>
          </a:xfrm>
          <a:prstGeom prst="leftArrowCallout">
            <a:avLst>
              <a:gd name="adj1" fmla="val 39189"/>
              <a:gd name="adj2" fmla="val 25000"/>
              <a:gd name="adj3" fmla="val 25006"/>
              <a:gd name="adj4" fmla="val 649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риентироваться в информационных пот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Выноска со стрелкой вниз 5"/>
          <p:cNvSpPr/>
          <p:nvPr/>
        </p:nvSpPr>
        <p:spPr>
          <a:xfrm>
            <a:off x="2357280" y="285840"/>
            <a:ext cx="2714760" cy="1143000"/>
          </a:xfrm>
          <a:prstGeom prst="downArrowCallout">
            <a:avLst>
              <a:gd name="adj1" fmla="val 25007"/>
              <a:gd name="adj2" fmla="val 25005"/>
              <a:gd name="adj3" fmla="val 25000"/>
              <a:gd name="adj4" fmla="val 6497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аивать нов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Выноска со стрелкой влево 6"/>
          <p:cNvSpPr/>
          <p:nvPr/>
        </p:nvSpPr>
        <p:spPr>
          <a:xfrm>
            <a:off x="5000760" y="4857840"/>
            <a:ext cx="3857400" cy="1571400"/>
          </a:xfrm>
          <a:prstGeom prst="leftArrowCallout">
            <a:avLst>
              <a:gd name="adj1" fmla="val 40448"/>
              <a:gd name="adj2" fmla="val 25000"/>
              <a:gd name="adj3" fmla="val 25002"/>
              <a:gd name="adj4" fmla="val 649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спользовать недост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Выноска со стрелкой влево 7"/>
          <p:cNvSpPr/>
          <p:nvPr/>
        </p:nvSpPr>
        <p:spPr>
          <a:xfrm>
            <a:off x="5143680" y="2286000"/>
            <a:ext cx="3714480" cy="2286000"/>
          </a:xfrm>
          <a:prstGeom prst="leftArrowCallout">
            <a:avLst>
              <a:gd name="adj1" fmla="val 40569"/>
              <a:gd name="adj2" fmla="val 24310"/>
              <a:gd name="adj3" fmla="val 38102"/>
              <a:gd name="adj4" fmla="val 649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ть такими качеств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ость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Выноска со стрелкой вверх 8"/>
          <p:cNvSpPr/>
          <p:nvPr/>
        </p:nvSpPr>
        <p:spPr>
          <a:xfrm>
            <a:off x="2071800" y="5286240"/>
            <a:ext cx="2714400" cy="1285920"/>
          </a:xfrm>
          <a:prstGeom prst="upArrowCallout">
            <a:avLst>
              <a:gd name="adj1" fmla="val 25039"/>
              <a:gd name="adj2" fmla="val 24998"/>
              <a:gd name="adj3" fmla="val 25000"/>
              <a:gd name="adj4" fmla="val 7004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ыв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инципы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фессиональной успешности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дагог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80960" y="1463760"/>
          <a:ext cx="8353440" cy="502452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50796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ци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дагогический замыс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  <a:tr h="23670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инцип фейерверка»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крой себя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едагоги – звезды: близкие и далекие, большие и маленькие, одинаково красивые. Каждая звездочка выбирает свой путь полета: у одних он длинный, а у других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 – желание сиять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214956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инцип весов»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йди себя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вой выбор – твои возможност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прописных истин, они рождаются в споре. Вокруг бушует ураган социальных противоречий. Важно быть самостоятельным в мире. Весы–качели – символ постоянного поиска, стремление выработать свою точку зр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</a:tbl>
          </a:graphicData>
        </a:graphic>
      </p:graphicFrame>
      <p:sp>
        <p:nvSpPr>
          <p:cNvPr id="200" name="Улыбающееся лицо 4"/>
          <p:cNvSpPr/>
          <p:nvPr/>
        </p:nvSpPr>
        <p:spPr>
          <a:xfrm>
            <a:off x="2268360" y="3260880"/>
            <a:ext cx="476280" cy="428400"/>
          </a:xfrm>
          <a:prstGeom prst="smileyFace">
            <a:avLst>
              <a:gd name="adj" fmla="val 9282"/>
            </a:avLst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ятно 2 5"/>
          <p:cNvSpPr/>
          <p:nvPr/>
        </p:nvSpPr>
        <p:spPr>
          <a:xfrm>
            <a:off x="2992320" y="2844720"/>
            <a:ext cx="495360" cy="295200"/>
          </a:xfrm>
          <a:prstGeom prst="irregularSeal2">
            <a:avLst/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2 6"/>
          <p:cNvSpPr/>
          <p:nvPr/>
        </p:nvSpPr>
        <p:spPr>
          <a:xfrm>
            <a:off x="3040200" y="3741840"/>
            <a:ext cx="495000" cy="295200"/>
          </a:xfrm>
          <a:prstGeom prst="irregularSeal2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ятно 2 7"/>
          <p:cNvSpPr/>
          <p:nvPr/>
        </p:nvSpPr>
        <p:spPr>
          <a:xfrm>
            <a:off x="1436760" y="2924280"/>
            <a:ext cx="495360" cy="295200"/>
          </a:xfrm>
          <a:prstGeom prst="irregularSeal2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ятно 1 8"/>
          <p:cNvSpPr/>
          <p:nvPr/>
        </p:nvSpPr>
        <p:spPr>
          <a:xfrm>
            <a:off x="1392120" y="3289320"/>
            <a:ext cx="524160" cy="371520"/>
          </a:xfrm>
          <a:prstGeom prst="irregularSeal1">
            <a:avLst/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ятно 1 9"/>
          <p:cNvSpPr/>
          <p:nvPr/>
        </p:nvSpPr>
        <p:spPr>
          <a:xfrm>
            <a:off x="1515960" y="3660840"/>
            <a:ext cx="476280" cy="361800"/>
          </a:xfrm>
          <a:prstGeom prst="irregularSeal1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ятно 1 10"/>
          <p:cNvSpPr/>
          <p:nvPr/>
        </p:nvSpPr>
        <p:spPr>
          <a:xfrm>
            <a:off x="3133800" y="3165480"/>
            <a:ext cx="428400" cy="428760"/>
          </a:xfrm>
          <a:prstGeom prst="irregularSeal1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11"/>
          <p:cNvSpPr/>
          <p:nvPr/>
        </p:nvSpPr>
        <p:spPr>
          <a:xfrm flipV="1">
            <a:off x="2744640" y="3192120"/>
            <a:ext cx="2476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2"/>
          <p:cNvSpPr/>
          <p:nvPr/>
        </p:nvSpPr>
        <p:spPr>
          <a:xfrm flipV="1">
            <a:off x="2071800" y="3670200"/>
            <a:ext cx="2476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3"/>
          <p:cNvSpPr/>
          <p:nvPr/>
        </p:nvSpPr>
        <p:spPr>
          <a:xfrm>
            <a:off x="2744640" y="34653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4"/>
          <p:cNvSpPr/>
          <p:nvPr/>
        </p:nvSpPr>
        <p:spPr>
          <a:xfrm>
            <a:off x="2744640" y="3646440"/>
            <a:ext cx="2476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5"/>
          <p:cNvSpPr/>
          <p:nvPr/>
        </p:nvSpPr>
        <p:spPr>
          <a:xfrm>
            <a:off x="1973160" y="3218040"/>
            <a:ext cx="2952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6"/>
          <p:cNvSpPr/>
          <p:nvPr/>
        </p:nvSpPr>
        <p:spPr>
          <a:xfrm flipV="1">
            <a:off x="1944720" y="3465000"/>
            <a:ext cx="32364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Равнобедренный треугольник 17"/>
          <p:cNvSpPr/>
          <p:nvPr/>
        </p:nvSpPr>
        <p:spPr>
          <a:xfrm>
            <a:off x="2319480" y="5900760"/>
            <a:ext cx="571320" cy="428760"/>
          </a:xfrm>
          <a:prstGeom prst="triangle">
            <a:avLst>
              <a:gd name="adj" fmla="val 50000"/>
            </a:avLst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8"/>
          <p:cNvSpPr/>
          <p:nvPr/>
        </p:nvSpPr>
        <p:spPr>
          <a:xfrm flipV="1">
            <a:off x="1700280" y="5705640"/>
            <a:ext cx="18097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Улыбающееся лицо 19"/>
          <p:cNvSpPr/>
          <p:nvPr/>
        </p:nvSpPr>
        <p:spPr>
          <a:xfrm>
            <a:off x="1392120" y="5729400"/>
            <a:ext cx="514440" cy="390240"/>
          </a:xfrm>
          <a:prstGeom prst="smileyFace">
            <a:avLst>
              <a:gd name="adj" fmla="val 9282"/>
            </a:avLst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Улыбающееся лицо 20"/>
          <p:cNvSpPr/>
          <p:nvPr/>
        </p:nvSpPr>
        <p:spPr>
          <a:xfrm>
            <a:off x="3230640" y="5315040"/>
            <a:ext cx="514440" cy="3906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95280" y="404640"/>
          <a:ext cx="8640720" cy="6040440"/>
        </p:xfrm>
        <a:graphic>
          <a:graphicData uri="http://schemas.openxmlformats.org/drawingml/2006/table">
            <a:tbl>
              <a:tblPr/>
              <a:tblGrid>
                <a:gridCol w="4319640"/>
                <a:gridCol w="4321080"/>
              </a:tblGrid>
              <a:tr h="63108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ци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дагогический замыс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  <a:tr h="220824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инцип рейтинга»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беждай! Пробуй! Планиру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каждого своя программа развития, цели и задачи. Каждый выбирает путь движения к успеху по силам и проявляет себя в разных жизненных ситуаци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32011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инцип успеха»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уй себя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итуации успеха. Главное – почувствовать вкус победы. Педагог – равноправный партнер, учитывающий интересы ребенка, индивидуальные способности и потреб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</a:tbl>
          </a:graphicData>
        </a:graphic>
      </p:graphicFrame>
      <p:sp>
        <p:nvSpPr>
          <p:cNvPr id="218" name="Равнобедренный треугольник 32"/>
          <p:cNvSpPr/>
          <p:nvPr/>
        </p:nvSpPr>
        <p:spPr>
          <a:xfrm>
            <a:off x="1825560" y="1773360"/>
            <a:ext cx="1357200" cy="1224000"/>
          </a:xfrm>
          <a:prstGeom prst="triangle">
            <a:avLst>
              <a:gd name="adj" fmla="val 50000"/>
            </a:avLst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Улыбающееся лицо 33"/>
          <p:cNvSpPr/>
          <p:nvPr/>
        </p:nvSpPr>
        <p:spPr>
          <a:xfrm>
            <a:off x="2212920" y="4365720"/>
            <a:ext cx="581040" cy="504720"/>
          </a:xfrm>
          <a:prstGeom prst="smileyFace">
            <a:avLst>
              <a:gd name="adj" fmla="val 9282"/>
            </a:avLst>
          </a:prstGeom>
          <a:solidFill>
            <a:srgbClr val="a9cf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оле 22"/>
          <p:cNvSpPr/>
          <p:nvPr/>
        </p:nvSpPr>
        <p:spPr>
          <a:xfrm>
            <a:off x="3409920" y="4060800"/>
            <a:ext cx="666720" cy="304920"/>
          </a:xfrm>
          <a:prstGeom prst="rect">
            <a:avLst/>
          </a:prstGeom>
          <a:solidFill>
            <a:srgbClr val="a9c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Хо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ле 23"/>
          <p:cNvSpPr/>
          <p:nvPr/>
        </p:nvSpPr>
        <p:spPr>
          <a:xfrm>
            <a:off x="3409920" y="5157720"/>
            <a:ext cx="666720" cy="304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Уме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оле 24"/>
          <p:cNvSpPr/>
          <p:nvPr/>
        </p:nvSpPr>
        <p:spPr>
          <a:xfrm>
            <a:off x="1116000" y="5157720"/>
            <a:ext cx="666720" cy="304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Мо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ле 25"/>
          <p:cNvSpPr/>
          <p:nvPr/>
        </p:nvSpPr>
        <p:spPr>
          <a:xfrm>
            <a:off x="1116000" y="4060800"/>
            <a:ext cx="666720" cy="304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Зн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8"/>
          <p:cNvSpPr/>
          <p:nvPr/>
        </p:nvSpPr>
        <p:spPr>
          <a:xfrm flipH="1" flipV="1">
            <a:off x="1912680" y="4308120"/>
            <a:ext cx="27612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9"/>
          <p:cNvSpPr/>
          <p:nvPr/>
        </p:nvSpPr>
        <p:spPr>
          <a:xfrm flipH="1">
            <a:off x="1913040" y="4870440"/>
            <a:ext cx="30456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40"/>
          <p:cNvSpPr/>
          <p:nvPr/>
        </p:nvSpPr>
        <p:spPr>
          <a:xfrm flipH="1">
            <a:off x="2793600" y="4365720"/>
            <a:ext cx="36036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41"/>
          <p:cNvSpPr/>
          <p:nvPr/>
        </p:nvSpPr>
        <p:spPr>
          <a:xfrm flipH="1" flipV="1">
            <a:off x="2743200" y="4871520"/>
            <a:ext cx="3715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9640"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  <a:ea typeface="Calibri"/>
              </a:rPr>
              <a:t>Основные же источники определения успешности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воспитанности, обученности детей в разных видах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детей, успешно обучающихся в начальной шк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проведенные педагогические меро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передового профессионального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и в местной печати, С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8000" y="3357720"/>
            <a:ext cx="548640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Только деятельность, приносящая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успех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ысокое удовлетворение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, становится для личности фактором развития.</a:t>
            </a:r>
            <a:br>
              <a:rPr sz="2800"/>
            </a:br>
            <a:br>
              <a:rPr sz="66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99680" y="285480"/>
            <a:ext cx="82263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сследование профессиональной компетентности педагога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— одно из ведущих направлений деятельности целого ряда ученых В.Н. Введенский, Г.Воронцова, Е. Вторина, И.А. Зим­няя, Н.В. Кузьмина, А.К. Маркова, Г.Молчанов, Л.А. Петровская, Г.С. Сухобская, Т.И. Шам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642960" y="2214720"/>
            <a:ext cx="8226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одержимое 2"/>
          <p:cNvSpPr/>
          <p:nvPr/>
        </p:nvSpPr>
        <p:spPr>
          <a:xfrm>
            <a:off x="500040" y="1928880"/>
            <a:ext cx="82868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фессиональная компетентность»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ссматривается как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вокупность знаний и умений, определяющих результативность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ъем навыков выполнения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мбинация личностных качеств и свойст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мплекс знаний и профессионально значимых личностных качест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правление профессионализ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еоретическая и практическая готовность к труду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пособность к сложным культуросообразным видам действ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нованный на знаниях, интеллектуально и личностно обусловленный опыт социально-профессиональной жизне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94920" y="260280"/>
            <a:ext cx="8497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офессиональная компетентность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ременного педагога ДОУ определяется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совокупность общечеловеческих и специфических профессиональных установок, позволяющих ему справляться с заданной программой и особыми, возникающими в психолого – педагогическом процессе дошкольного учреждения, ситуациями, разрешая которые, он способствует уточнению, совершенствованию, практическому воплощению задач развития, его общих и специальных спосо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проще говоря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применять знания, умения и практический опыт для успешной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Структура профессиональной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5400" y="1599840"/>
            <a:ext cx="82263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нитивный компонен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ключает профессиональные знания в области психолого-педагогических и методиче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ятельностный компоне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профессиональные умения и опы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-личностны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онент - личностные качества и профессиональные ценностные ориентации педаг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временные требования к компетентности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000" y="1989000"/>
            <a:ext cx="7848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лжен быть компетентным в вопросах организации и содержания деятельности по следующим направлени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тельно-образователь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о–методичес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ьно–педагогиче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Воспитательно–образовательная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деятельность предполагает следующие критерии компетент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ение целостного педагогического процес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развивающе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охраны жизни и здоровья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е критерии подкрепляются следующи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елями компетентности педаг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целей, задач, содержания, принципов, форм, методов и средств обучения и воспитания дошколь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я результативно формировать знания, умения и навыки в соответствии с образовательной програм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75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75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75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75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75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чебно – методическая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еятельность воспитателя предполагает следующие критерии компетент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ование воспитательно-образовательной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ирование педагогической деятельности на основе анализа достигнутых результа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е критерии подкрепляются следующи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елями компетент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образовательной программы и методики развития разных видов деятельности де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проектировать, планировать и осуществлять целостный педагогический процес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адение технологиями исследования, педагогического мониторинга, воспитания и обуче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Социально – педагогическая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еятельность воспитателя предполагает следующие критерии компетент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ультативная помощь родител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условий для социализации де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щита интересов и пра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е критерии подкрепляются следующи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елям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основных документов о правах ребенка и обязанностях взрослых по отношению к дет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вести разъяснительную педагогическую работу с родителями, специалистами Д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  <a:ea typeface="Calibri"/>
              </a:rPr>
              <a:t>Основные пути развития профессиональной компетентности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5400" y="1844280"/>
            <a:ext cx="8226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бота в методических объединениях, творческих групп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следовательская, эксперимента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нновационная деятельность, освоение новых педагогических технолог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личные формы педагогической поддерж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ктивное участие в педагогических конкурсах, мастер – класс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общение собственного педагогическ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4:30:49Z</dcterms:created>
  <dc:creator>Пользователь</dc:creator>
  <dc:description/>
  <dc:language>en-US</dc:language>
  <cp:lastModifiedBy>барсук</cp:lastModifiedBy>
  <dcterms:modified xsi:type="dcterms:W3CDTF">2022-02-17T07:07:33Z</dcterms:modified>
  <cp:revision>70</cp:revision>
  <dc:subject/>
  <dc:title>Повышение профессиональной компетентности педагогов дошкольного образовательного учреждения</dc:title>
</cp:coreProperties>
</file>